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6C-4691-47D9-915A-61019B7E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F10-76DD-4FCB-B7CF-D70D017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394-99FA-4D12-9073-3D38E283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ED5-5A60-4DEF-8DD1-B4F85571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FDC6-C106-4957-A755-EF45AB7E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30C-86F4-4991-B8E6-218B0D2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148A-C9CE-41A7-B4A3-19051F07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463F-6A43-48AB-83D4-8B0CC691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1F5-BB4D-46F0-A053-635DB1B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2438-F968-415C-B24C-E6118BB2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44A-B811-49F4-BC03-DBA8748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7D6-DD0B-41B2-B766-E369535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C3A0-3846-423B-82C7-033FBF0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9BEA-E223-487D-8B20-270C0CA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0C8-F7D6-479E-B981-1B873B89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86D-6310-45CA-BED3-D0FF0643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A2B8-264B-45B6-9572-DF3289D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FBF8-2CAF-49CF-B9CE-D0B93FB7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0568-5F7C-4734-A17C-0654445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ECEA-73DB-4319-A4E3-F2EDA19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675A-09A6-4E09-8134-59AE76F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52CE-1769-461E-862F-9CD1524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830-1E1F-47B6-ABC2-230B2220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5213-696B-4DD3-BA35-7FAF1B0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FBB4-5CB2-457D-9ED5-DA639C1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74D0-A713-4A8E-B90B-67719B0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88A2-4D80-495B-ABAB-56934D8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E4A6-D872-4A79-8C82-6B6473C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1BAC-9D9C-4ECE-A1AD-A0CE080E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5BB1-3A3A-48EF-845F-EF060C4D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8B4C-CC8E-421A-971B-DBD7BF4D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B7D6-37F9-4052-AB40-CA6A346F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A5DE-CC4A-4C13-9A69-271D8BE8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C26-9703-453C-ABC5-E5DEB39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8F02-DBC8-4537-A34C-D505A040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001B-4133-47D6-8149-C3E3BCB7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F694-7799-4DC2-A87E-CD91BF8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9830-2925-418C-8BE1-A74E968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14FB-4C5B-42DF-B29C-6150C2F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3850-9EFB-4E86-8AD2-CDAEDFF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9953-4007-4A86-A3B0-59C9169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807F-E081-48D0-89EF-B20C02BE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1C93-6F75-4779-89CA-F9987557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4291-69BD-436A-8D47-F3F19FDF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53A-89EA-467D-B30C-3BC91BB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DA13D-3564-4881-8790-B8A0F61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DF53-11A8-4458-AE77-5A3DC18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11CD-A224-4202-AFE7-6C476A2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7F33-A2F1-4690-B1EF-3C1EFC61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DA111-2B62-43DA-ADB3-B2FC3C3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EC86-FFDC-42FD-87ED-5919AA3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11C6-85B3-4A7B-B0A7-0B17954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7717-44A4-426E-A3BC-80EEB48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E890-6D38-4523-B5F1-DDA8CF2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5ECE-4C06-4558-BFDB-382B054D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965-1BD8-4E97-844F-ECCE610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2CED-2B00-43CB-9582-9BA77634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82773-7CD3-4F69-8789-F64A66D9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3A4EE-E6F7-4CEC-8C8E-AA4D73F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933E5-31DC-49BC-8584-78D3679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B7936-20A3-46E2-9674-12A774AD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E7DEE-D367-4939-8826-4C8D8D5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4C705-A2BE-42E5-A7BC-AD41A36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042AA-7F2F-4EAD-BC0D-8120904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9DAC9-2779-40EC-91DB-F1281B3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93C04-B128-4BE8-B097-4E550F83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B3A-E692-48CE-A3C8-002BAE2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2945F-270B-479F-9CDC-0DDF0B0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9E5D2-4A92-4CCB-8470-F5D1FACF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CD986-D974-4B0C-8DDE-2BF6D755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658B-A1D3-45A3-8018-990D6640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D29F2-8652-4729-A578-2633BC47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BA7B5-A1A9-45DE-AC7F-564E1F0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E091-5059-4428-8B8D-6762F71E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2C25A-6B71-4175-AD83-756AAE6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2E54F-560E-49C9-A176-B0D48899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34D4-FC0B-4E78-8991-CB6358E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979-C1EC-456E-83F9-60BAE57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8AC0-AE45-42F0-8B83-F0710B0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C49E-949B-421E-8FF1-09A3C0C4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E956-43DD-4D1F-8B85-2E725D9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50C89-A6DC-44A8-9655-EFCD27DF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0267-5BDB-45FE-A591-FA97465E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19F-0FB0-4775-9264-CFF6869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5BE-64A2-4F49-80DB-114C3FE9733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8A58-8E2A-4984-8D7D-ADDCC6D2AEF0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387-6FC1-4F92-8119-FC21CAE8DC4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2C58-8FD8-4A87-9409-835F9B2E810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384-3A96-4E85-AC05-82A1D476B96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8F5-C572-45E3-93BB-C6BDF439CE5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45BE-98C6-40F4-A486-ADF2A63A13B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1073160" y="907920"/>
            <a:ext cx="717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РОЕКТНАЯ РАБО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«Метод фонетических ассоциаций в запоминании английских слов 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Автор: Милькович Илья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ученик 6 «Б» класса МБОУ СОШ 2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Руководитель:  Винтоняк Елена Викторовна,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учитель иностранного язык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Нижневартовск 201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498600" y="0"/>
            <a:ext cx="462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WISH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– ЖЕЛАНИЕ, ЖЕЛАТЬ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Созвучное слово в русском языке "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ВИШ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ня". Самый простой сюжет таков: 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я очень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ЖЕЛАЮ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 покушать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ВИШ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н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6" name="Picture 3" descr="C:\Users\home\Downloads\вишня.jpg"/>
          <p:cNvPicPr/>
          <p:nvPr/>
        </p:nvPicPr>
        <p:blipFill>
          <a:blip r:embed="rId1"/>
          <a:stretch/>
        </p:blipFill>
        <p:spPr>
          <a:xfrm>
            <a:off x="5114880" y="267984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Users\home\Downloads\лицо.jpg"/>
          <p:cNvPicPr/>
          <p:nvPr/>
        </p:nvPicPr>
        <p:blipFill>
          <a:blip r:embed="rId2"/>
          <a:stretch/>
        </p:blipFill>
        <p:spPr>
          <a:xfrm>
            <a:off x="5510160" y="14436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250920" y="260280"/>
            <a:ext cx="660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В русском языке английское слово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HUNT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хант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) -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ОХОТИТЬСЯ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имеет слово-созвучие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ХАНТ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.  Пр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e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длагаем следующую ситуацию: </a:t>
            </a:r>
            <a:r>
              <a:rPr b="0" i="1" lang="ru-RU" sz="3200" spc="-1" strike="noStrike">
                <a:solidFill>
                  <a:srgbClr val="ff0000"/>
                </a:solidFill>
                <a:latin typeface="Century Gothic"/>
              </a:rPr>
              <a:t>ХАНТ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ы много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охотят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ся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2286000" y="2828880"/>
            <a:ext cx="6858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Для слова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SEAL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сил)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ТЮЛЕНЬ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можно применить следующее ассоциативное словосочетание: </a:t>
            </a:r>
            <a:r>
              <a:rPr b="0" i="1" lang="ru-RU" sz="3200" spc="-1" strike="noStrike">
                <a:solidFill>
                  <a:srgbClr val="ff0000"/>
                </a:solidFill>
                <a:latin typeface="Century Gothic"/>
              </a:rPr>
              <a:t>СИЛ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ьный </a:t>
            </a:r>
            <a:r>
              <a:rPr b="0" i="1" lang="ru-RU" sz="3200" spc="-1" strike="noStrike">
                <a:solidFill>
                  <a:srgbClr val="ff0000"/>
                </a:solidFill>
                <a:latin typeface="Century Gothic"/>
              </a:rPr>
              <a:t>ТЮЛЕНЬ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179280" y="-64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EAR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(иа)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-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УХО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–сюжет: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УША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стый ослик произносит: “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ИА-ИА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!”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ЕУЕ (ай)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-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ГЛАЗ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– ситуация: 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“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АЙ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!            Мне что-то попало в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ГЛАЗ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”. 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             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ARM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(ам)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РУКА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: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 собака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АМ 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(укусила) меня за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РУКУ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Для запоминания слова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LEG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(лег )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-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НОГА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можно использовать  слово - созвучие </a:t>
            </a:r>
            <a:r>
              <a:rPr b="0" i="1" lang="ru-RU" sz="3600" spc="-1" strike="noStrike">
                <a:solidFill>
                  <a:srgbClr val="ff0000"/>
                </a:solidFill>
                <a:latin typeface="Century Gothic"/>
              </a:rPr>
              <a:t>ЛЕГ</a:t>
            </a:r>
            <a:r>
              <a:rPr b="0" i="1" lang="ru-RU" sz="3600" spc="-1" strike="noStrike">
                <a:solidFill>
                  <a:srgbClr val="002060"/>
                </a:solidFill>
                <a:latin typeface="Century Gothic"/>
              </a:rPr>
              <a:t>аться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0" y="322200"/>
            <a:ext cx="9053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Анкета №1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1.Интерисует ли Вас проблема наиболее эффективного запоминания учебного   материала по иностранному языку?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2.Согласны ли Вы, что использование специальных стратегий и способов в обучении делают процесс изучения легче и интереснее?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74%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3.Применяете ли Вы эти способы? Если да, то какие?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62%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4.Знакомы ли Вы с методом фонетических (звуковых) ассоциаций?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(12%)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179280" y="189000"/>
            <a:ext cx="878544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Памятк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1.Убедись, что произносишь иностранное слово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равильн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2. Подбери к нему созвучное, то есть звучаще-похожее слово на родном языке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3.Составь небольшой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сюжет из слова-созвучия и перевод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В сюжете примерное звучание слова и   перевод должны быть в одной связке.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Picture 5" descr="Рисунок112"/>
          <p:cNvPicPr/>
          <p:nvPr/>
        </p:nvPicPr>
        <p:blipFill>
          <a:blip r:embed="rId1"/>
          <a:stretch/>
        </p:blipFill>
        <p:spPr>
          <a:xfrm>
            <a:off x="6539040" y="114480"/>
            <a:ext cx="2952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395280" y="324000"/>
            <a:ext cx="856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Анкета №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1.Используете ли Вы МФА при запоминании английских слов?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(96%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2.Согласны ли Вы, что использование МФА в обучении делает процесс изучения легче и интереснее?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(100%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3.  Применяете ли Вы МФА при запоминании  научных терминов по другим школьным предметам?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(62%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79280" y="18900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Согласно результатам нашего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исследования, использование МФА в запоминания английских слов имеет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большую учебную ценность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упрощает процесс запоминания иностранных слов, а значит, способствует  обогащению словарного запаса по иностранному языку, активизирует процесс запоминания иностранной лексики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помогает сделать процесс изучения иностранного языка не только эффективным,  но и увлекательным.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7" name="Picture 5" descr="Рисунок1цыц"/>
          <p:cNvPicPr/>
          <p:nvPr/>
        </p:nvPicPr>
        <p:blipFill>
          <a:blip r:embed="rId1"/>
          <a:stretch/>
        </p:blipFill>
        <p:spPr>
          <a:xfrm>
            <a:off x="7113600" y="217440"/>
            <a:ext cx="20034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611280" y="33336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писок использованных информационных ресурсов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1.Царева. А.. – Ростов н/Д. Лучшие методики запоминания английских слов: учебное пособие: Феникс, 2006 – 480с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2.Бориско Н.Ф. Сам себе методист. Киев: Фирма «ИНКОС», 2001.-267с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3. Интернет материалы: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http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// 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www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ez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english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narod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ru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articles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seven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_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secrets</a:t>
            </a: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002060"/>
                </a:solidFill>
                <a:latin typeface="Century Gothic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250920" y="115920"/>
            <a:ext cx="64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Цель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 выявить эффективность  метода фонетических ассоциаций (МФА)  в изучении иностранного язык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250920" y="1685880"/>
            <a:ext cx="83534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1.Проанализировать литературу по данной проблем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2.Разработать анкеты, для изучения опыта одноклассников по овладению МФ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3.Разработать памятки - рекомендации  по применению метода фонетических ассоциаций  для  изучающих иностранный язык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актическая значимость исследования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представлен богатый теоретический и практический материал по использованию метода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фонетических ассоциаций  в процессе изучения иностранного язык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0" y="189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entury Gothic"/>
              </a:rPr>
              <a:t>В основе </a:t>
            </a: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метода фонетических ассоциаций</a:t>
            </a:r>
            <a:r>
              <a:rPr b="0" lang="ru-RU" sz="4000" spc="-1" strike="noStrike">
                <a:solidFill>
                  <a:srgbClr val="002060"/>
                </a:solidFill>
                <a:latin typeface="Century Gothic"/>
              </a:rPr>
              <a:t> лежит прием сопоставления и выстраивания ассоциативных связей между словами из различных языков мира  , которые имеют одинаковую фонетическую форму и звучат практически идентично, хоть и означают разные значения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395280" y="33336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Метод  фонетических ассоциаций     (МФА)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сихологи и лингвисты рекомендуют МФА как один из самых простых (с точки зрения овладения данным методом)  и  эффективных  методов  для  обучающихся разного возраста, уровня подготовки и психологических особенностей</a:t>
            </a: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6" name="Picture 4" descr="j0238036"/>
          <p:cNvPicPr/>
          <p:nvPr/>
        </p:nvPicPr>
        <p:blipFill>
          <a:blip r:embed="rId1"/>
          <a:stretch/>
        </p:blipFill>
        <p:spPr>
          <a:xfrm>
            <a:off x="5084640" y="4245120"/>
            <a:ext cx="38084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24000" y="333360"/>
            <a:ext cx="682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Это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самый увлекательный метод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, который помогает сделать процесс изучения иностранного языка не только интересным, но  развивает фантазию и воображение.  Итак, как же запоминать иностранные слова при помощи звуковых ассоциаций</a:t>
            </a:r>
            <a:r>
              <a:rPr b="0" lang="en-US" sz="3600" spc="-1" strike="noStrike">
                <a:solidFill>
                  <a:srgbClr val="002060"/>
                </a:solidFill>
                <a:latin typeface="Century Gothi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8" name="Picture 4" descr="j0238036"/>
          <p:cNvPicPr/>
          <p:nvPr/>
        </p:nvPicPr>
        <p:blipFill>
          <a:blip r:embed="rId1"/>
          <a:stretch/>
        </p:blipFill>
        <p:spPr>
          <a:xfrm>
            <a:off x="6659640" y="5262480"/>
            <a:ext cx="204624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250920" y="33336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Благодаря многочисленным опытам и экспериментам  профессора Стэнфордского университета Аткинсона  и его помощников, которые доказали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эффективность 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данного метода, сегодня МФА становится всё более и более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популярным</a:t>
            </a:r>
            <a:r>
              <a:rPr b="0" lang="ru-RU" sz="3600" spc="-1" strike="noStrike">
                <a:solidFill>
                  <a:srgbClr val="002060"/>
                </a:solidFill>
                <a:latin typeface="Century Gothic"/>
              </a:rPr>
              <a:t> во всем мир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395280" y="333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Английское слово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HILL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-холм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фонетически ассоциируется с русским словом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хил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ый.  Затем вам предстоит составить маленькую историю и представить ее, например,  «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хил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ый с трудом взбирается на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холм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».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684360" y="3789360"/>
            <a:ext cx="617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Для того чтобы запомнить иностранное слово, нужно подобрать к нему созвучное, то есть звучащее похоже слово на родном или хорошо знакомом языке. Затем необходимо составить небольшой сюжет из слова-созвучия и перевод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0" y="0"/>
            <a:ext cx="8782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entury Gothic"/>
              </a:rPr>
              <a:t>Классические примеры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МЕ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Н (меш)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ПЕТЛЯ, ЯЧЕЙКА (сети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Созвучными могут считаться слова: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"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ок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”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или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"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ать", или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"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кать" - как вам больше нравится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В зависимости от выбранного созвучия сюжеты могут быть такими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: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"ПЕТЛЯ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ает выбраться“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"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ок завязали ПЕТЛЕЙ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или "За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МЕШ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кался в ПЕТЛЕ"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Приведём разработанные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нами конкретные примеры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: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Так английскому слову 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KETTLE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кетл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)-  чайник наиболее близко по звучанию русское слово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КОТЁЛ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. Для слов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КОТЁЛ 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ЧАЙНИК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сюжет может быть таким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“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В </a:t>
            </a:r>
            <a:r>
              <a:rPr b="0" i="1" lang="ru-RU" sz="3200" spc="-1" strike="noStrike">
                <a:solidFill>
                  <a:srgbClr val="ff0000"/>
                </a:solidFill>
                <a:latin typeface="Century Gothic"/>
              </a:rPr>
              <a:t>ЧАЙНИКЕ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, как в бурлящем</a:t>
            </a:r>
            <a:r>
              <a:rPr b="0" i="1" lang="ru-RU" sz="3200" spc="-1" strike="noStrike">
                <a:solidFill>
                  <a:srgbClr val="ff0000"/>
                </a:solidFill>
                <a:latin typeface="Century Gothic"/>
              </a:rPr>
              <a:t> КОТЛе</a:t>
            </a:r>
            <a:r>
              <a:rPr b="0" i="1" lang="ru-RU" sz="3200" spc="-1" strike="noStrike">
                <a:solidFill>
                  <a:srgbClr val="002060"/>
                </a:solidFill>
                <a:latin typeface="Century Gothic"/>
              </a:rPr>
              <a:t>, кипит вода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Century Gothic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Важно обязательно произносить вслух как запоминаемое слово, так и слово-созвуч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Picture 2" descr="C:\Users\home\Downloads\чайник.jpg"/>
          <p:cNvPicPr/>
          <p:nvPr/>
        </p:nvPicPr>
        <p:blipFill>
          <a:blip r:embed="rId1"/>
          <a:stretch/>
        </p:blipFill>
        <p:spPr>
          <a:xfrm>
            <a:off x="7448400" y="36360"/>
            <a:ext cx="16956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8:04:51Z</dcterms:created>
  <dc:creator>home</dc:creator>
  <dc:description/>
  <dc:language>en-US</dc:language>
  <cp:lastModifiedBy>home</cp:lastModifiedBy>
  <dcterms:modified xsi:type="dcterms:W3CDTF">2013-01-30T15:10:44Z</dcterms:modified>
  <cp:revision>44</cp:revision>
  <dc:subject/>
  <dc:title>Pictures at p.24</dc:title>
</cp:coreProperties>
</file>